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688-8F61-4100-988B-88902B06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CDE-EA11-4B73-8E17-A1B833BE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514-18A5-4DA5-A368-837E2679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BE3-CFC3-4606-BAC9-6B9B3F8A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B7D-1C8E-4AF6-9D87-5612B500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CC4-9028-49BD-AA04-1B1C46A9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EEC-240B-49A9-9A7B-D7A0F20C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851-AF29-42DB-8745-A1E157E6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CFA-6A35-4BB9-A133-0E37E512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C85-6DAE-47EE-A4CE-E321F71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34C-078E-4B46-90F4-D520104F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70C-D2C9-49E7-B73A-58BA89C0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CC7B-482C-4BBE-AFDF-68877AA0AEB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Weathering Process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eeze-Th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ccurs in areas where the temperature regularly drops below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0°C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Water enters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cracks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in the rock during the day. Overnight the temperature drops and the water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freezes.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s it freezes, it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expand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expanded ice places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ressure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on the rocks around i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Over time this constant pressuring of the rock causes it to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crack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split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reeze-Thaw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fr.academic.ru/pictures/frwiki/87/Weathering_freeze_thaw_action_iceland.jpg"/>
          <p:cNvPicPr/>
          <p:nvPr/>
        </p:nvPicPr>
        <p:blipFill>
          <a:blip r:embed="rId1"/>
          <a:stretch/>
        </p:blipFill>
        <p:spPr>
          <a:xfrm>
            <a:off x="684360" y="1547640"/>
            <a:ext cx="7704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foliation/Onion Sk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hot, dry clim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uter layer of the rock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the sun during the day, causing it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and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uring the night, as the temperature drops, the ro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stant expanding and contracting eventually leads to the outer layers of the ro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aling away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ving behind them rounded rocks and dome shap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cr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xfoliation/Onion Sk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stacey.peak-media.co.uk/bude-walk/800-08220038.jpg"/>
          <p:cNvPicPr/>
          <p:nvPr/>
        </p:nvPicPr>
        <p:blipFill>
          <a:blip r:embed="rId1"/>
          <a:stretch/>
        </p:blipFill>
        <p:spPr>
          <a:xfrm>
            <a:off x="2411280" y="1484280"/>
            <a:ext cx="3961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ydro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s rocks, which include feldspar crystals, the most common example being gran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ldspar react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ic rain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form kaolin (china cla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der of the rock breaks up into its individual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yst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er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ydro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tafoni.com/Weathering_files/Tafoni_Pholad_1.jpg"/>
          <p:cNvPicPr/>
          <p:nvPr/>
        </p:nvPicPr>
        <p:blipFill>
          <a:blip r:embed="rId1"/>
          <a:stretch/>
        </p:blipFill>
        <p:spPr>
          <a:xfrm>
            <a:off x="1116000" y="1530360"/>
            <a:ext cx="6910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rbonation An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on rocks containing calcium carbonate, such a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mest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water and dissolved carbon dioxide mix to form a weak carbon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um carbonate in the rocks reacts with the acidic water and dissolves leaving behind calcium bicarbon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mpound is soluble and is easily washed away by running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arbonation An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geographylwc.org.uk/GCSE/igcse/weathering/images/stalags.jpg"/>
          <p:cNvPicPr/>
          <p:nvPr/>
        </p:nvPicPr>
        <p:blipFill>
          <a:blip r:embed="rId1"/>
          <a:stretch/>
        </p:blipFill>
        <p:spPr>
          <a:xfrm>
            <a:off x="1258920" y="1422360"/>
            <a:ext cx="6626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50:49Z</dcterms:created>
  <dc:creator>Dell_02</dc:creator>
  <dc:description/>
  <dc:language>en-US</dc:language>
  <cp:lastModifiedBy>Dell_02</cp:lastModifiedBy>
  <dcterms:modified xsi:type="dcterms:W3CDTF">2011-01-26T04:09:23Z</dcterms:modified>
  <cp:revision>2</cp:revision>
  <dc:subject/>
  <dc:title>Weathering Processes</dc:title>
</cp:coreProperties>
</file>